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B985-C70E-4513-9B3F-96C39A31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1280" y="397980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1E7D-1B0A-4047-B1E4-8B5C1DA1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B90-0EE1-4F18-978C-171D113C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968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44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128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968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44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4F23-DFF7-403E-84B4-4A5D5345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11280" y="367920"/>
            <a:ext cx="79214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C477-B685-4FA5-BF92-50C61313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1280" y="397980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968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844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128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968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844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697C-49B5-43F3-B644-EAC7A302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F54-B40A-47C0-988F-8A37DCBF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8E7-9C37-41A2-94CC-CD9588FA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1280" y="367920"/>
            <a:ext cx="79214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5072-9FFB-4C5C-A82B-525DAE73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8904-05CB-4FA1-B142-5B0784A9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E776-55B7-49A1-B598-8B97EAD3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15F-B8C7-4D1A-BC7F-04DC1FFB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89720"/>
            <a:ext cx="9360000" cy="558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41472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29440" indent="-376920">
              <a:spcBef>
                <a:spcPts val="275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44880" indent="-339480">
              <a:spcBef>
                <a:spcPts val="2750"/>
              </a:spcBef>
              <a:buClr>
                <a:srgbClr val="ffcc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97400" indent="-339480">
              <a:spcBef>
                <a:spcPts val="27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112120" indent="-301680">
              <a:spcBef>
                <a:spcPts val="2750"/>
              </a:spcBef>
              <a:buClr>
                <a:srgbClr val="fffff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112120" indent="-30168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112120" indent="-30168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50560" y="6497280"/>
            <a:ext cx="2160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92360" y="6497280"/>
            <a:ext cx="540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172360" y="6497280"/>
            <a:ext cx="7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91F7-0D67-4138-B0EB-A40B8E7ECA18}" type="slidenum">
              <a:rPr b="1" lang="it-IT" sz="14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5589720"/>
            <a:ext cx="9325080" cy="1368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239400" cy="1989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1989000"/>
            <a:ext cx="7200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Aft>
                <a:spcPts val="10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 Unicode MS"/>
              </a:rPr>
              <a:t>Click to edit the title text format</a:t>
            </a:r>
            <a:endParaRPr b="0" lang="en-US" sz="4000" spc="-1" strike="noStrike">
              <a:solidFill>
                <a:srgbClr val="ffcc99"/>
              </a:solidFill>
              <a:latin typeface="Arial Unicode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754440" y="5800680"/>
            <a:ext cx="1633680" cy="868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989000"/>
            <a:ext cx="79246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Aft>
                <a:spcPts val="90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99"/>
                </a:solidFill>
                <a:latin typeface="Arial Unicode MS"/>
              </a:rPr>
              <a:t>Informatica per le Scienze Umane</a:t>
            </a:r>
            <a:br>
              <a:rPr sz="4000"/>
            </a:br>
            <a:r>
              <a:rPr b="0" i="1" lang="it-IT" sz="3600" spc="-1" strike="noStrike">
                <a:solidFill>
                  <a:srgbClr val="ffcc99"/>
                </a:solidFill>
                <a:latin typeface="Arial Unicode MS"/>
              </a:rPr>
              <a:t>laboratorio</a:t>
            </a:r>
            <a:endParaRPr b="0" lang="en-US" sz="36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Modelli dei dati per le Scienze Uman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Alessandro Lenci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Dipartimento di Linguistica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Dizionario – creazione di tabelle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QL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523880"/>
            <a:ext cx="8078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TABLE </a:t>
            </a:r>
            <a:r>
              <a:rPr b="1" lang="it-IT" sz="1600" spc="-1" strike="noStrike">
                <a:solidFill>
                  <a:srgbClr val="ffff00"/>
                </a:solidFill>
                <a:latin typeface="Courier New"/>
              </a:rPr>
              <a:t>Dizionario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nomeDizionario varchar (100) PRIMARY KE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casaEditrice varchar(5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REFERENCES CasaEditrice(nome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lingua varchar(50) NOT NUL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anno 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numeroVoci 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CHECK (anno&gt;=1980 and anno&lt;=2004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2362320"/>
            <a:ext cx="1295280" cy="6858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4800600" cy="26827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3809880" y="5334120"/>
            <a:ext cx="68580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7400" y="3844800"/>
            <a:ext cx="4648320" cy="25639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Dizionario – creazione di tabelle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QL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523880"/>
            <a:ext cx="8078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TABLE </a:t>
            </a:r>
            <a:r>
              <a:rPr b="1" lang="it-IT" sz="1600" spc="-1" strike="noStrike">
                <a:solidFill>
                  <a:srgbClr val="ffff00"/>
                </a:solidFill>
                <a:latin typeface="Courier New"/>
              </a:rPr>
              <a:t>Dizionario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nomeDizionario varchar (100) PRIMARY KE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casaEditrice varchar(5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REFERENCES CasaEditrice(nome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lingua varchar(50) NOT NUL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anno 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numeroVoci 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CHECK (anno&gt;=1980 and anno&lt;=2004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3048120"/>
            <a:ext cx="3733920" cy="6858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5257800"/>
            <a:ext cx="266688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Dizionario – creazione di tabelle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QL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523880"/>
            <a:ext cx="8078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TABLE </a:t>
            </a:r>
            <a:r>
              <a:rPr b="1" lang="it-IT" sz="1600" spc="-1" strike="noStrike">
                <a:solidFill>
                  <a:srgbClr val="ffff00"/>
                </a:solidFill>
                <a:latin typeface="Courier New"/>
              </a:rPr>
              <a:t>Dizionario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nomeDizionario varchar (100) PRIMARY KE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casaEditrice varchar(5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REFERENCES CasaEditrice(nome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lingua varchar(50) NOT NUL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anno 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numeroVoci 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CHECK (anno&gt;=1980 and anno&lt;=2004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2057400"/>
            <a:ext cx="4343400" cy="6858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90920" y="3589200"/>
            <a:ext cx="3733560" cy="2799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2362320" y="5562720"/>
            <a:ext cx="266688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Dizionario</a:t>
            </a:r>
            <a:br>
              <a:rPr sz="3200"/>
            </a:br>
            <a:r>
              <a:rPr b="1" lang="it-IT" sz="2400" spc="-1" strike="noStrike">
                <a:solidFill>
                  <a:srgbClr val="ffcc99"/>
                </a:solidFill>
                <a:latin typeface="Arial Unicode MS"/>
              </a:rPr>
              <a:t>alcuni esempi di entrate</a:t>
            </a:r>
            <a:endParaRPr b="1" lang="en-US" sz="24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588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n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.m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Arial"/>
              </a:rPr>
              <a:t>FO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nimale domestico molto comune: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il c. abbai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tenere il c. al guinzagli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Arial"/>
              </a:rPr>
              <a:t>TS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arm.,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elle armi da fuoco, martelletto che provoca lo sparo: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sollevare il 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3276720"/>
            <a:ext cx="8077320" cy="2666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iud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v.tr., v.int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v.t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Arial"/>
              </a:rPr>
              <a:t>FO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ostare gli elementi mobili di porte e finestre …: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c. la p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Arial"/>
              </a:rPr>
              <a:t>FO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zionare l’interruttore o la chiave che impedisce il flusso di qcs.: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c. il rubinet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v.int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Arial"/>
              </a:rPr>
              <a:t>FO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essare l’attività o interromperla temporaneamente: il negozio ha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Arial"/>
              </a:rPr>
              <a:t>T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lit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troncare ogni possibilità di collaborazione con altre forze politiche o sociali: il governo ha c. a sinis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Sinonimi: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I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barricare, bloccare, serrare, …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2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spegn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[pass.rem.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chius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chiudest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…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.pass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chiuso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Dizionario – Analisi dei Requisiti</a:t>
            </a:r>
            <a:br>
              <a:rPr sz="3200"/>
            </a:br>
            <a:r>
              <a:rPr b="1" lang="it-IT" sz="2400" spc="-1" strike="noStrike">
                <a:solidFill>
                  <a:srgbClr val="ffcc99"/>
                </a:solidFill>
                <a:latin typeface="Arial Unicode MS"/>
              </a:rPr>
              <a:t>struttura della voce</a:t>
            </a:r>
            <a:endParaRPr b="1" lang="en-US" sz="24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12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Ogni voce di dizionario è identificata da un lemma e contiene un numero </a:t>
            </a: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di sens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12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 sensi sono identificati da un numero univoco dentro la voce. I sensi possono essere descritti attraverso marche di tipo diverso che ne esplicitano la variabilità d’uso, il dominio tematico, ec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12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Ogni senso è descritto da una glossa (definizione) e può essere ulteriormente specificato tramite l’aggiunta di esempi d’uso. Un senso può anche avere un suo codice grammatica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12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e voci possono contenere indicazioni sulle eventuali forme flesse del lemma. Ogni forma ha associato un codice che ne descrive le caratteristiche morfologich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zi di Query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9214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41472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Query By Examp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struzione guidata di una query in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terpretata in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41472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Elencare la descrizione dei codici grammaticali  verbali associati ai sensi attestati nel dizionario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4206960"/>
            <a:ext cx="5257800" cy="1808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SELECT DISTINCT Senso.codiceGrammaticale, CodiceGrammaticale.descrizioneCod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FROM CodiceGrammaticale JOIN Senso ON CodiceGrammaticale.nomeCodice = Senso.codiceGrammati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WHERE Senso.codiceGrammaticale Like "v.*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Query By Exampl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057400" y="2558880"/>
            <a:ext cx="6934320" cy="34610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228600" y="4911840"/>
            <a:ext cx="1143000" cy="3373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3768840"/>
            <a:ext cx="1143000" cy="3373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2743200"/>
            <a:ext cx="1143000" cy="3373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JO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5978520"/>
            <a:ext cx="1219320" cy="3373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5105520"/>
            <a:ext cx="106668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962520"/>
            <a:ext cx="99072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2895480"/>
            <a:ext cx="266688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2895480"/>
            <a:ext cx="0" cy="9144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1752480"/>
            <a:ext cx="1143000" cy="3373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DISTIN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67480" y="2133720"/>
            <a:ext cx="0" cy="16002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5486400"/>
            <a:ext cx="1219320" cy="3373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ORDER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447920" y="5866920"/>
            <a:ext cx="990360" cy="3049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447920" y="5409720"/>
            <a:ext cx="685800" cy="2286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zi di Query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DB voce di dizionario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rovare le voci che anno un senso marcato con il codice “CO” (Comu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rovare le forme del passato remoto delle voci che hanno un senso marcato con il codice “C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Informazione e Scienze Uman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nformazione struttur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iziona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hesau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nformazione non strutturata (debolmente strutturata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ocumenti testu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ibri, giornali, pagine web, conversazioni, e-mail, chat, ec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Meta-informazio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repertori bibliografi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ataloghi on-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Obiettivo delle Esercitazion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518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Progettare e costruire con MS Access una base di dati per la creazione e gestione di un </a:t>
            </a:r>
            <a:r>
              <a:rPr b="1" lang="it-IT" sz="2200" spc="-1" strike="noStrike">
                <a:solidFill>
                  <a:srgbClr val="ff6600"/>
                </a:solidFill>
                <a:latin typeface="Arial"/>
              </a:rPr>
              <a:t>dizionario elettronico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rticolazione delle vo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truttura del dizion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query dei d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Progettare e costruire con MS Access una base di dati per la gestione di </a:t>
            </a:r>
            <a:r>
              <a:rPr b="1" lang="it-IT" sz="2200" spc="-1" strike="noStrike">
                <a:solidFill>
                  <a:srgbClr val="ff6600"/>
                </a:solidFill>
                <a:latin typeface="Arial"/>
              </a:rPr>
              <a:t>testi digital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formazioni metatestu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truttura del testo nel base di d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nnotazioni linguistiche sul te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query dei d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Progettazione di una Base di Da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828800"/>
            <a:ext cx="2438280" cy="380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analisi dei requisi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2286000"/>
            <a:ext cx="1066680" cy="68580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62240" y="3048120"/>
            <a:ext cx="221004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schema concettu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(diagramma delle class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62240" y="4495680"/>
            <a:ext cx="221004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schema lo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(modello relaziona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0" idx="2"/>
            <a:endCxn id="92" idx="0"/>
          </p:cNvCxnSpPr>
          <p:nvPr/>
        </p:nvCxnSpPr>
        <p:spPr>
          <a:xfrm>
            <a:off x="4266720" y="2209320"/>
            <a:ext cx="1080" cy="839160"/>
          </a:xfrm>
          <a:prstGeom prst="straightConnector1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4343400" y="25146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ettazione concettu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251460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2"/>
            <a:endCxn id="93" idx="0"/>
          </p:cNvCxnSpPr>
          <p:nvPr/>
        </p:nvCxnSpPr>
        <p:spPr>
          <a:xfrm>
            <a:off x="4266720" y="3581280"/>
            <a:ext cx="1080" cy="915120"/>
          </a:xfrm>
          <a:prstGeom prst="straightConnector1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343400" y="38862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ettazione lo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62240" y="5791320"/>
            <a:ext cx="221004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Base dei D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3" idx="2"/>
            <a:endCxn id="99" idx="0"/>
          </p:cNvCxnSpPr>
          <p:nvPr/>
        </p:nvCxnSpPr>
        <p:spPr>
          <a:xfrm>
            <a:off x="4266720" y="5028840"/>
            <a:ext cx="1080" cy="762840"/>
          </a:xfrm>
          <a:prstGeom prst="straightConnector1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4343400" y="52578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gettazione fis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Dizionario – Analisi dei Requisiti</a:t>
            </a:r>
            <a:br>
              <a:rPr sz="3200"/>
            </a:br>
            <a:r>
              <a:rPr b="1" lang="it-IT" sz="2400" spc="-1" strike="noStrike">
                <a:solidFill>
                  <a:srgbClr val="ffcc99"/>
                </a:solidFill>
                <a:latin typeface="Arial Unicode MS"/>
              </a:rPr>
              <a:t>struttura generale</a:t>
            </a:r>
            <a:endParaRPr b="1" lang="en-US" sz="24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12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Ogni dizionario è caratterizzato da un titolo, una lingua, una casa editrice, una data di pubblicazione, e un numero di voc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12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e case editrici si trovano in una città e hanno un responsab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12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Ogni dizionario ha uno o più curatori che sono docenti universitar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12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 docenti provengono da un’università e sono titolari di un cors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Dizionario – creazione delle tabell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823760"/>
            <a:ext cx="792144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Tabella “Dizionario”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Attribut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ome del dizionario (</a:t>
            </a: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chiave primari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asa editrice (</a:t>
            </a: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chiave esterna – integrità referenziale con </a:t>
            </a: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tabella “Casa editrice”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ingua (</a:t>
            </a: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obbligator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nno di pubblicazione (</a:t>
            </a: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compreso tra il 1980 e il 2004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umero vo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Dizionario – creazione di tabelle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QL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1523880"/>
            <a:ext cx="8078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TABLE </a:t>
            </a:r>
            <a:r>
              <a:rPr b="1" lang="it-IT" sz="1600" spc="-1" strike="noStrike">
                <a:solidFill>
                  <a:srgbClr val="ffff00"/>
                </a:solidFill>
                <a:latin typeface="Courier New"/>
              </a:rPr>
              <a:t>Dizionario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nomeDizionario varchar (100) PRIMARY KE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casaEditrice varchar(5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REFERENCES CasaEditrice(nome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lingua varchar(50) NOT NUL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anno 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numeroVoci 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CHECK (anno&gt;=1980 and anno&lt;=2004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0" y="3657600"/>
            <a:ext cx="4419720" cy="27446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Dizionario – creazione di tabelle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QL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523880"/>
            <a:ext cx="8078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TABLE </a:t>
            </a:r>
            <a:r>
              <a:rPr b="1" lang="it-IT" sz="1600" spc="-1" strike="noStrike">
                <a:solidFill>
                  <a:srgbClr val="ffff00"/>
                </a:solidFill>
                <a:latin typeface="Courier New"/>
              </a:rPr>
              <a:t>Dizionario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nomeDizionario varchar (100) PRIMARY KE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casaEditrice varchar(5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REFERENCES CasaEditrice(nome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lingua varchar(50) NOT NUL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anno 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numeroVoci 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CHECK (anno&gt;=1980 and anno&lt;=2004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1600200"/>
            <a:ext cx="2057400" cy="6858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0" y="3657600"/>
            <a:ext cx="4419720" cy="27446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2133720" y="3886200"/>
            <a:ext cx="685800" cy="6858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Dizionario – creazione di tabelle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QL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1523880"/>
            <a:ext cx="8078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TABLE </a:t>
            </a:r>
            <a:r>
              <a:rPr b="1" lang="it-IT" sz="1600" spc="-1" strike="noStrike">
                <a:solidFill>
                  <a:srgbClr val="ffff00"/>
                </a:solidFill>
                <a:latin typeface="Courier New"/>
              </a:rPr>
              <a:t>Dizionario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nomeDizionario varchar (100) PRIMARY KE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casaEditrice varchar(5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REFERENCES CasaEditrice(nome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lingua varchar(50) NOT NUL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anno 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numeroVoci 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CHECK (anno&gt;=1980 and anno&lt;=2004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2362320"/>
            <a:ext cx="761760" cy="6858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4800600" cy="26827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3809880" y="4038480"/>
            <a:ext cx="685800" cy="6858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08:39:40Z</dcterms:created>
  <dc:creator>Alessandro Lenci</dc:creator>
  <dc:description/>
  <dc:language>en-US</dc:language>
  <cp:lastModifiedBy> </cp:lastModifiedBy>
  <dcterms:modified xsi:type="dcterms:W3CDTF">2007-11-28T20:26:32Z</dcterms:modified>
  <cp:revision>34</cp:revision>
  <dc:subject/>
  <dc:title>Informatica per le Scienze Umane laboratorio</dc:title>
</cp:coreProperties>
</file>